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73A6B-8B3F-40C1-9CCE-FEF83CA33E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B152F-499A-4ED0-8637-D30C5AE01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overnment by the People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elby, David. P. 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73AEF-161F-4403-84F7-B12AE3F4D5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1F4A9-AE19-4A9A-99C2-6C0D288843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B0C-C993-41C0-A8D5-DD581EA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8C5-A5F4-47DB-9D79-2BE3B4C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BE0-C741-4D38-B5A2-F7F93C95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C8E-2079-4C81-8139-50DC9ED0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DFB-F893-40B4-A483-5509746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9CF-C320-43D2-BACB-1FD276B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BF2-2A4B-4C4B-A1CD-0C6EEA3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8D1-7844-44CB-B17E-097B2E08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E42-B0BA-407A-B090-C64D58F2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719-DDB0-4539-8CC7-A2AC757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DCE-553B-472F-BE55-984C285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7B0-4A71-4850-8EED-F60AFD9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A7883-F30D-4A1B-9C09-BA76A8D5F0D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8764E-F93D-4113-B3EF-0198CCB7DC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3 – Section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71-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hree basic forms of governmental structures: federalism, unitary, and confederac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re and contrast the different interpretations of federalis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how federalism protects citizen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a constitution distributes power and authority between a central government and smaller, regional governmen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 is derived from the people through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th levels exercise power over the peo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Content Placeholder 1" descr=""/>
          <p:cNvPicPr/>
          <p:nvPr/>
        </p:nvPicPr>
        <p:blipFill>
          <a:blip r:embed="rId1"/>
          <a:srcRect l="0" t="544" r="0" b="54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ternatives to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deralism Protects Citizen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ecks the Growth of Tyrann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ows Unity Without Uniform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courages Experimentatio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vides Training for National Officia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eeps Government Closer to the Peop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agram 1" descr=""/>
          <p:cNvPicPr/>
          <p:nvPr/>
        </p:nvPicPr>
        <p:blipFill>
          <a:blip r:embed="rId1"/>
          <a:stretch/>
        </p:blipFill>
        <p:spPr>
          <a:xfrm>
            <a:off x="822240" y="933480"/>
            <a:ext cx="7394760" cy="5600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477720" y="460440"/>
            <a:ext cx="8026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Number of Governments in the United States, 2007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Federalism So Importa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entralizes our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opportunities to particip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entralizes our polic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deral and state governments handle different problem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tes regulate drinking ages, marriage, and speed limi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s can solve the same problem in different ways and tend to be policy innovato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1:15:39Z</dcterms:created>
  <dc:creator>Katie Madison</dc:creator>
  <dc:description/>
  <dc:language>en-US</dc:language>
  <cp:lastModifiedBy>madisonk Madison</cp:lastModifiedBy>
  <dcterms:modified xsi:type="dcterms:W3CDTF">2014-09-09T13:49:40Z</dcterms:modified>
  <cp:revision>4</cp:revision>
  <dc:subject/>
  <dc:title>Federalism Protects Citizens </dc:title>
</cp:coreProperties>
</file>